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BBF-779E-4F52-A5A9-4AF33C86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35C-D047-4F23-B618-B212834D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F87-931C-4754-BD7D-0A0C0D8D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F92-DE1F-447B-B2EB-3BB00C13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C15E3-F206-45CA-BBFA-E3B30470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1A048-91F8-42A1-852B-A248033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C46B2-261C-4AC6-B9AD-BB0BB0EF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1C074-1090-4F43-BC99-998340FD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9D6E8-53C7-4FFB-BF30-EB50DACF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C06A9-6763-4BC1-A191-EEDB55F1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01F52-C12C-4DF2-8B66-B99F0F9A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9D8-2143-4DCC-A31A-F888A37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FC307-7B12-493E-A73D-BD11E7F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B621F-FB2E-4C6B-B74A-D594334E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8436A-0143-4207-B2E2-FD4D0169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3BB34-033A-4570-86B7-AAE929CD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89183-2A7D-48D2-8767-28B340FB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77C1-4FD1-4A40-9127-043BB447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50BA-D776-428F-B7BE-52ECFBC7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55636-7A8D-4E98-9318-52EE0C6F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DC2F-B0F8-4AED-9A96-31AC998C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E9AB-85F6-4372-B979-CA9E1011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A3D-F92B-48F0-A218-C3677D24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5114-0639-4E5D-8CAE-5554CF19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6B8C-EB83-4092-BE1A-80FE252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ED99-0FAA-4613-9ECC-34D54217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E10A-CD61-48CA-B78F-2BE7D06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6B0F-B751-4EA0-8761-0841E072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1D81-E666-4481-BE3A-7954F39E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EC72-2BB4-4A1F-9FB8-765F43EF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997F-85DD-4C3F-825F-CAB5D782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FFD0-61B6-487A-9C9F-E3785FB5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C115-5A9B-4F50-AC32-00E5DDD1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E9E-2639-474A-9942-A4BD274F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4897-D0C1-4852-9827-9F32B5B9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FE55-4088-4039-BAF8-672A7B77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91C2C-E9B5-4B9C-8719-B79C0852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9E461-29A4-4971-BCB5-A5A92719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73BD9-D034-41AA-ABA0-EF9B21C2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A2774-4FF5-4412-A94E-C2FCE16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2BE78-FE22-4CF1-BF94-31D2056A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42F0B-BBD5-4C6B-86DE-3297FF51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D368-8F6B-464C-921F-2767C6C0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4A9-75EA-4729-8B9F-42DE28EC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F01-43B8-4FC5-968D-E363BA23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708-8E1E-4B0A-B191-0B442708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DF6-A65B-4529-8F97-5CCB6811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BEF-AC1C-4F82-B85F-815F532E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F38-CFD7-4144-BA38-868D021EF5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617b"/>
            </a:gs>
            <a:gs pos="100000">
              <a:srgbClr val="011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42" name="Freeform 2"/>
            <p:cNvSpPr/>
            <p:nvPr/>
          </p:nvSpPr>
          <p:spPr>
            <a:xfrm>
              <a:off x="4500720" y="930240"/>
              <a:ext cx="139680" cy="17794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3" name="Freeform 3"/>
            <p:cNvSpPr/>
            <p:nvPr/>
          </p:nvSpPr>
          <p:spPr>
            <a:xfrm>
              <a:off x="4498920" y="3016080"/>
              <a:ext cx="133560" cy="5763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4484520" y="3957480"/>
              <a:ext cx="133560" cy="395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4494240" y="4707000"/>
              <a:ext cx="82440" cy="368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4525920" y="5324400"/>
              <a:ext cx="57240" cy="2113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4525920" y="5778360"/>
              <a:ext cx="47520" cy="9367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4127400" y="5707080"/>
              <a:ext cx="370080" cy="206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4100400" y="4584600"/>
              <a:ext cx="738360" cy="10256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4708440" y="3803760"/>
              <a:ext cx="505080" cy="6699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3664080" y="1889280"/>
              <a:ext cx="2228760" cy="1830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4303800" y="5207040"/>
              <a:ext cx="584280" cy="6699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3860640" y="2844720"/>
              <a:ext cx="1570320" cy="2284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3333600" y="1844640"/>
              <a:ext cx="1062360" cy="9241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2166840" y="925560"/>
              <a:ext cx="2243160" cy="871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6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4724280" y="925560"/>
              <a:ext cx="2243160" cy="871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e2d7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9dd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7C8D-49D5-40B7-93F0-1BD8563A4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191E-B1AC-45D3-9EE4-82C8881E4E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617b"/>
            </a:gs>
            <a:gs pos="100000">
              <a:srgbClr val="011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41" name="Freeform 2"/>
            <p:cNvSpPr/>
            <p:nvPr/>
          </p:nvSpPr>
          <p:spPr>
            <a:xfrm>
              <a:off x="4500720" y="930240"/>
              <a:ext cx="139680" cy="17794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2" name="Freeform 3"/>
            <p:cNvSpPr/>
            <p:nvPr/>
          </p:nvSpPr>
          <p:spPr>
            <a:xfrm>
              <a:off x="4498920" y="3016080"/>
              <a:ext cx="133560" cy="5763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4484520" y="3957480"/>
              <a:ext cx="133560" cy="395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4494240" y="4707000"/>
              <a:ext cx="82440" cy="368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4525920" y="5324400"/>
              <a:ext cx="57240" cy="2113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4525920" y="5778360"/>
              <a:ext cx="47520" cy="9367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4127400" y="5707080"/>
              <a:ext cx="370080" cy="20628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100400" y="4584600"/>
              <a:ext cx="738360" cy="10256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708440" y="3803760"/>
              <a:ext cx="505080" cy="6699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664080" y="1889280"/>
              <a:ext cx="2228760" cy="1830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4303800" y="5207040"/>
              <a:ext cx="584280" cy="6699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3860640" y="2844720"/>
              <a:ext cx="1570320" cy="2284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3333600" y="1844640"/>
              <a:ext cx="1062360" cy="92412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2166840" y="925560"/>
              <a:ext cx="2243160" cy="871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4724280" y="925560"/>
              <a:ext cx="2243160" cy="87156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e2d7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9dd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2BA7-A1AC-40A5-ACF4-3E8BD3C57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ed.nyu.edu/healthwise/article.html?hwid=hw4404" TargetMode="External"/><Relationship Id="rId2" Type="http://schemas.openxmlformats.org/officeDocument/2006/relationships/hyperlink" Target="http://0-www.mdconsult.com.carlson.utoledo.edu/das/patient/body/86541057-3/666880165/10041/9397.html" TargetMode="External"/><Relationship Id="rId3" Type="http://schemas.openxmlformats.org/officeDocument/2006/relationships/hyperlink" Target="http://documents.cancer.org/117.00/117.00.pdf" TargetMode="External"/><Relationship Id="rId4" Type="http://schemas.openxmlformats.org/officeDocument/2006/relationships/hyperlink" Target="http://www.aafp.org/afp/20020501/1834.html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nical Case #4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y Darrah, Nate Franley, Paul Rogero and Julie Johnson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hy does his back hurt?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287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The prostat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6765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of seminal volume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aline or acid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ies into what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structure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mponents of semen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029200" y="1828800"/>
            <a:ext cx="358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38104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7195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The prostat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6765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s about 30% of the seminal volume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aline to neutralize acids in the reproductive tract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ies into the prostatic urethra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line structure with 5 lobe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brinolysin, calcium, phosphate, citrate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5029200" y="1828800"/>
            <a:ext cx="358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38104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7195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How is the prostate fed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arteries feed the prostate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nal pudendal and middle rectal a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veins drain the prostate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nal iliac fed by the prostatic venous plexus draining into the vesicular vv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What’s the lymphatic drainage of the prostate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ternal iliac nodes, running along with the internal iliac vei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f5f9"/>
                </a:solidFill>
                <a:latin typeface="Book Antiqua"/>
              </a:rPr>
              <a:t>What nerves feed the prostate?</a:t>
            </a:r>
            <a:endParaRPr b="1" lang="en-US" sz="40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prostate gets dual innerv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mpathetic from T12-L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asympathetic from pelvic splanchnic nerves S2-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Obviously, masses aren’t normal.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is this mass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state cancer or Benign Prostate Hyperplasi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Normal Prostate Changes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7720" y="16761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birth, the prostate is about the size of a pea. It grows only slightly until puberty, when it begins to enlarge rapid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tains normal adult size and shape, about that of a walnut, when a man reaches his early 20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land generally remains stable until about the mid-forties, when, in most men, the prostate begins to enlarge again through a process of cell multiplicatio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f5f9"/>
                </a:solidFill>
                <a:latin typeface="Book Antiqua"/>
              </a:rPr>
              <a:t>Benign Prostatic Hyperplasia (BPH)</a:t>
            </a:r>
            <a:br>
              <a:rPr sz="4000"/>
            </a:br>
            <a:endParaRPr b="1" lang="en-US" sz="40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761760"/>
            <a:ext cx="518184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up to half of men in their 40s, the prostate begins to enlarge through a process of cell multiplication called benign prostatic hyperplasia (BPH)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larging inner portion of the prostate puts pressure on the urethra, which can potentially cause urinary problem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bout 80% of men eventually develop enlarged prostates, but only some experience significant symptoms. BPH is a normal condition and is not life-threaten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3" name="Picture 2" descr="BPH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Which one is it, cancer or BPH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rregular nodules are characteristic, but not definitive for canc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PH has the nodule smooth and regular on a digital rectal exa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velop in different parts of the prostat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PH occurs in the inner zone of the prostat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ancer tends to develop in the outer are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 10-year study found no higher risk for prostate cancer in men with BP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 Black"/>
              </a:rPr>
              <a:t>So, Mr. X… what brings you in?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casian male, age 66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ing of generalized lower back pain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2 months ago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is “dull” and has not changed in intensity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nt minor weight loss- 10# in 2 month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Risk factors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might cause prostate cancer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besity (?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ace (African-Americans high ris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asectomy (?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ity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North American, Australian, NW Europe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How to diagnose prostate cancer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state biopsy (definitiv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state-Specific Antigen ass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SA over 4 is a 10% chance of canc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SA of 10 is a 50% cha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isk goes up as PSA ri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600200" y="548640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5029200" y="230508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Stages of prostate cancer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e bone scans, CT or MR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ge I- no spread outside prostate, found on a transurethral resection but NOT found on a rectal exam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ge II- same as I, found on a D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ge III- spread to seminal vesicles, but not lymph nod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ge IV-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ancer has spread to pelvic wall or rectum O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ancer has spread to lymph nodes or has metastasize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Symptoms occur in later stages: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0480" y="1447560"/>
            <a:ext cx="44974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6f7"/>
                </a:solidFill>
                <a:latin typeface="Book Antiqua"/>
              </a:rPr>
              <a:t>Later Stage Urinary Sympto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51920" y="22096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ak urinary stream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ability to urinat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lood in the urin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erruption of urinary stream (stopping and starting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requent urination (especially at night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in or burning during ur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7000" y="1447560"/>
            <a:ext cx="4498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c6f7"/>
                </a:solidFill>
                <a:latin typeface="Book Antiqua"/>
              </a:rPr>
              <a:t>Late Stage General Sympto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873680" y="2174400"/>
            <a:ext cx="4270320" cy="43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ronic pain, most often in spine,  &amp; sometimes in pelvis , lower back, hips, or bones of upper leg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y be accompanied by significant weight lo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Metastasis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state cancer can metastasize through the venous system via the prostatic plex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st common metastases are to the lumbar spine (90%) to compress the spine, then to lungs in 50%, and in 25% to the liv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umbar spine is affected 3x more than cervical sp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181480" y="182880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3434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Can metastasis explain the back pain and sputum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ck pai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ssible spread to the lumbar spin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ressing the spinal nerv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putu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ssible spread to the lun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How to treat this?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440" y="17715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RI/CT to grade the cancer and investigate possible metasta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rge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state remov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moval of the testes (Why?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emotherap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ug therap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ti-testosterone drug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H-releasing antagoni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ynthetic estrog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Survival rates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pared to men of the same demographic without prostate canc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5 years- ~100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0 years- 93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5 years- 77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f5f9"/>
                </a:solidFill>
                <a:latin typeface="Book Antiqua"/>
              </a:rPr>
              <a:t>Citations</a:t>
            </a:r>
            <a:endParaRPr b="1" lang="en-US" sz="4400" spc="-1" strike="noStrike">
              <a:solidFill>
                <a:srgbClr val="dbf5f9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ore, K.L., &amp; Dalley, A.F. Clinically Oriented Anatomy. 5th ed. Philadelphia: Lippincott, 2006. pp. 406-409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gital Rectal Examination”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Book Antiqua"/>
                <a:hlinkClick r:id="rId1"/>
              </a:rPr>
              <a:t>http://www.med.nyu.edu/healthwise/article.html?hwid=hw4404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state Cancer”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Book Antiqua"/>
                <a:hlinkClick r:id="rId2"/>
              </a:rPr>
              <a:t>http://0-www.mdconsult.com.carlson.utoledo.edu/das/patient/body/86541057-3/666880165/10041/9397.htm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state Cancer”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Book Antiqua"/>
                <a:hlinkClick r:id="rId3"/>
              </a:rPr>
              <a:t>http://documents.cancer.org/117.00/117.00.pdf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uchsjäger, M., Shukla-Dave, A., Akin, O., Baretnz, J., &amp; Hricak, H.. (2008). Prostate Cancer Imaging. 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Acta Radiologica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49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1), 107-120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axby, K., (2001). Prostatic symptoms- Essential simple investigations were not mentioned. 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British Medical Journa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, 323(7315), 750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bf5f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urologic Complications of Prostate Cancer”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Book Antiqua"/>
                <a:hlinkClick r:id="rId4"/>
              </a:rPr>
              <a:t>http://www.aafp.org/afp/20020501/1834.html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Let’s get you on the scale.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P 135/80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se 75bpm, regular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of 98.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 of 19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ight 5’9”, weight of 225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322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Deeper into the history.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jury or trauma in history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ghing in morning that produces yellow sputum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es 2-3 cigars/day for 10 year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cturia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edication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5181480" y="4038480"/>
            <a:ext cx="3252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The exams.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ngs show expiratory rhonchi diminished on coughing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ovascular, GU, musculoskeletal and neurological exams are norma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/recta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egular mass anteriorly and in midlin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ule is not painfu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Okay, so now what?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240" y="1676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unusual with his exam?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MI of 33.2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iratory rhonchi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llow sputum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, irregular nodule 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rectal exam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667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Another question…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ould you be able to see on a rectal exam in a male? How about a female?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um, bladder, coccyx, sacrum, ischioanal fossa and anal musculature in both sexes, particularly the internal and external sphincter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en the prostate, seminal vesicles, bulbourethral glands and the bulb of the peni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palpate the uterus and ovaries in women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So what do you think?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Nocturia?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ossible cause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tate cancer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ign Prostate Hyperplasia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usor muscle weakness in older men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 level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during the da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at nigh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05:47:35Z</dcterms:created>
  <dc:creator>Casey</dc:creator>
  <dc:description/>
  <dc:language>en-US</dc:language>
  <cp:lastModifiedBy>Casey</cp:lastModifiedBy>
  <dcterms:modified xsi:type="dcterms:W3CDTF">2008-01-28T01:23:34Z</dcterms:modified>
  <cp:revision>10</cp:revision>
  <dc:subject/>
  <dc:title>Clinical Case #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